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9408-4507-418F-B3A4-EB811CB1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6618-ED2C-4E41-AA98-B0CCD388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70C-455D-44B0-967E-E2D1D2A7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89CF-10F1-456E-B0FA-E4454940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E374-0302-4350-9D9D-6A298BDA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9A99-E60C-4D34-82C5-96A29A37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232C-EF77-451C-A046-4B174395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3210-3F04-4875-88CE-8897FFFE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A83F-7B5E-4434-B0DE-756AF689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2E4F-3079-4753-B0B6-31B4D76D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DB43-D25C-47BB-8E8E-3F04DC79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2828-6695-41E0-BDA5-A1121EC9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DBAF-029E-4906-83DF-9A4BD8C0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CB91-AC76-478C-BDE2-65E866ED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6623-DB8E-4E06-9E4F-D1665FE1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F5DF-FE47-4728-8698-DE26A49C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3C07-D073-4FF4-B8C6-115967DC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BF1C-512E-4074-9593-B6DB9C88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1E1-E1C4-49FC-895B-E86A21CC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E888-8897-44B8-9A71-3EE0067C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4A36-D90F-4445-8024-02A2CECA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D4D9-0B67-4338-8E88-8B421BA0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BFCA-277F-4FC4-BBF2-25FC6C09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40D-50D9-48C4-A491-31282A88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4059-6643-496D-A8C7-7C5D7773EBB5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cc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6F9A-78A9-476D-B892-C67387FB2C8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99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99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tfrancis.edu/ba/ghkickul/stuwebs/bbios/biograph/vanderbi.htm" TargetMode="External"/><Relationship Id="rId2" Type="http://schemas.openxmlformats.org/officeDocument/2006/relationships/hyperlink" Target="http://www.stfrancis.edu/ba/ghkickul/stuwebs/bbios/biograph/vanderbi.htm" TargetMode="External"/><Relationship Id="rId3" Type="http://schemas.openxmlformats.org/officeDocument/2006/relationships/hyperlink" Target="http://www.voteview.com/vanderb2.htm" TargetMode="External"/><Relationship Id="rId4" Type="http://schemas.openxmlformats.org/officeDocument/2006/relationships/hyperlink" Target="http://www.voteview.com/vanderb2.htm" TargetMode="External"/><Relationship Id="rId5" Type="http://schemas.openxmlformats.org/officeDocument/2006/relationships/hyperlink" Target="http://www.u-s-history.com/pages/h845.html" TargetMode="External"/><Relationship Id="rId6" Type="http://schemas.openxmlformats.org/officeDocument/2006/relationships/hyperlink" Target="http://www.nnp.org/nni/Publications/DutchAmerican/vanderbiltc.html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f461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image" descr=""/>
          <p:cNvPicPr/>
          <p:nvPr/>
        </p:nvPicPr>
        <p:blipFill>
          <a:blip r:embed="rId1"/>
          <a:stretch/>
        </p:blipFill>
        <p:spPr>
          <a:xfrm>
            <a:off x="1447920" y="2743200"/>
            <a:ext cx="2394000" cy="33336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191120" y="42829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Born: May 27, 1794</a:t>
            </a: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Died: January 4, 1877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Money He Mad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Used the money to help his railroad business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Expanded his railroads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Made more vessels for people to travel on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502920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I don't care half so much about making money as I do about making my point, and coming out ahead.” 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--Cornelius Vanderbilt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Impact on Industry or Trad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Vessels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He produced more which made this industry grow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Railroads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He was hardworking, competitive, and reliable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pic>
        <p:nvPicPr>
          <p:cNvPr id="323" name="229616" descr=""/>
          <p:cNvPicPr/>
          <p:nvPr/>
        </p:nvPicPr>
        <p:blipFill>
          <a:blip r:embed="rId1"/>
          <a:stretch/>
        </p:blipFill>
        <p:spPr>
          <a:xfrm>
            <a:off x="6173640" y="2214720"/>
            <a:ext cx="1903680" cy="28908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5715000" y="5334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His Statue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7086600" y="5105520"/>
            <a:ext cx="0" cy="30456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Impact on the United Stat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Transported more people throughout Eastern United States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Connected his the railroads he had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Works Cited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2214360"/>
            <a:ext cx="86104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Cornelius Vanderbilt, University Of St, Francis, November 27, 2007 &lt;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stfrancis.edu/ba/ghkickul/stuwebs/bbios/biograph/vanderbi.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htm</a:t>
            </a: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Cornelius Vanderbilt, 1997, T. Poole, November 27, 2007 &lt;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http://www.voteview.com/vanderb2.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htm</a:t>
            </a: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Business And Industry; Cornelius Vanderbilt, 2002-2005, Online Highways, November 27, 2007 &lt;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5"/>
              </a:rPr>
              <a:t>http://www.u-s-history.com/pages/h845.html</a:t>
            </a: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Vanderbilt, Cornelius (1794-1877), The New Netherland Institute, November 27, 2007 &lt;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6"/>
              </a:rPr>
              <a:t>http://www.nnp.org/nni/Publications/DutchAmerican/vanderbiltc.html</a:t>
            </a: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Business Ev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1853 - Built a steam yacht, the North Star, to travel Europe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1857 - Became a director of the RR 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1867 – December 11</a:t>
            </a:r>
            <a:r>
              <a:rPr b="0" lang="en-US" sz="2200" spc="-1" strike="noStrike" baseline="30000">
                <a:solidFill>
                  <a:srgbClr val="9900cc"/>
                </a:solidFill>
                <a:latin typeface="Times New Roman"/>
              </a:rPr>
              <a:t>th</a:t>
            </a: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 elected to president of the RR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Merged the New York Central, and the Hudson River railroad, gaining profits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1868 – made a new and larger freight yard on the western side of Manhattan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By 1869, controlled RR stretching from New York to Chicago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1871 - Construction of the first terminal at Grand Central Station began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1871 - Partnership with the New York and New Haven railroads emerged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Industry and Trade Involve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280" y="2747880"/>
            <a:ext cx="3902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Steam boats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Leases vessels to the Union Government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Railroads 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Becoming president of the company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pic>
        <p:nvPicPr>
          <p:cNvPr id="296" name="vaneng" descr=""/>
          <p:cNvPicPr/>
          <p:nvPr/>
        </p:nvPicPr>
        <p:blipFill>
          <a:blip r:embed="rId1"/>
          <a:stretch/>
        </p:blipFill>
        <p:spPr>
          <a:xfrm>
            <a:off x="4863960" y="3160800"/>
            <a:ext cx="3903840" cy="2173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Target Marke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New Yorkers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Started out for the upper class at $4 per person, but then was lowered to $1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Upped the cost of food on the boats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Comfortable accommodations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863960" y="2214720"/>
            <a:ext cx="3903840" cy="27381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648320" y="5257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The Vanderbilt’s Summer Home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6781680" y="4952520"/>
            <a:ext cx="0" cy="30492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mpetitio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Daniel Drew - forced out of the vessel industry by Vanderbilt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James Fisk and Jay Gould - Drew’s associates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Drew and Vanderbilt argued over who would let their vessels travel on the Erie river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854680" y="2214720"/>
            <a:ext cx="2222640" cy="25858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5486400" y="5181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Daniel Drew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7086600" y="4800600"/>
            <a:ext cx="0" cy="45720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Horizontal Integratio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He spread out his railroad business to different places in the United States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He connected some of his railroads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st Cuts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(Horizontal Integration)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He received more money when he made his business larger and he expanded his business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Vertical Integratio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Lowered the cost for people to get onto his boats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Made the prices of the food on the boats higher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4267080" y="4724280"/>
            <a:ext cx="1575000" cy="1662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st Cuts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(Vertical Integration)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Cutting the cost to board the boats made it easier for other people to travel on the boats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He received more business by cutting the cost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4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90720" y="5562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I have been insane on the subject of moneymaking all my life.”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--Cornelius Vanderbilt 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9:21:49Z</dcterms:created>
  <dc:creator>STUDENT</dc:creator>
  <dc:description/>
  <dc:language>en-US</dc:language>
  <cp:lastModifiedBy>STUDENT</cp:lastModifiedBy>
  <dcterms:modified xsi:type="dcterms:W3CDTF">2007-11-28T19:41:19Z</dcterms:modified>
  <cp:revision>6</cp:revision>
  <dc:subject/>
  <dc:title>PowerPoint Presentation</dc:title>
</cp:coreProperties>
</file>